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7EB9-82C6-4EC2-9D56-F6D586D57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ghlight appropriat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ve cues when need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ep 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or ey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ke something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vid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 interesting w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 headline on each visual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sent one idea on each visu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in with a large first let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ck carefully for err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 the same transition through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 same animation through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’t bring animation across graph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ckground col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easy-to-read type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upper and lower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oid use italics for emph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ave lots of white sp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ep it organiz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tch for bleed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me colors puls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 font color to emphasi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 contrasting col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role of five (or sev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989-8335-4491-9D79-EDF43E72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083-CF2D-4EA7-B549-C1079FA9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934-7F2B-4DB4-AED7-521B22BC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664-1B2D-49EA-AECF-7FE4DD33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A7E1-0DFB-49E4-8387-34F93F81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06A3-3DD5-44B3-9E29-F86A1207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0232-6756-4345-861E-8B52022D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E68E-2D1F-4E3F-AB9C-D41C4F03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2C5E-052E-4523-8D9D-3A7ABD9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2DF8-EFED-4C3B-8BBE-2D48E595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975D-8485-4C4C-B850-369E3191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41C-7BA2-45D7-815D-9A492BD1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ED8D-994B-4FC8-BFF8-EBE98F3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6E28-C6BF-4EAB-B08C-9E8F447A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3F50-2F7C-4142-ACED-2FF0596A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A099-1D45-4B3E-9237-7010030C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9A76-60A3-44C7-A918-CC974F67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D2E-69E1-4C82-86B3-720BD09D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528-7873-4F72-A6B3-EAFDB88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2AD-3685-411E-868A-41E117EA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8BA-3B4C-4C06-95B6-6147AE32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831-1F4D-462C-B17C-B04920E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180-AA64-4D85-B69E-C773888C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5FF-379E-4A48-B750-A5893894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B650-CED7-472F-9B71-B899E23A0B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6EFB-A31A-4F03-9F3C-E5AC428356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R&amp;J%20jeopardy%20acts1&amp;2.pp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_video.php?viewkey=3e2d61891b1e4051ef75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PowerPoint in the Classroo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Servic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ther Use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Review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ther Use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0"/>
            <a:ext cx="8528040" cy="556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83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.S. serviceman Steve Rogers, left, from Oakland, Calif., chats with East German border guard Mike Staaps, right, who peers through a hole from the east side of the Berlin Wall in West Berlin, Germany, March 26, 1990. (AP Photo/Herbert Proeppe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ggestion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hould I Use Power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When Should I Use PowerPoint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va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presentation as sp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in focusing on key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ittle Tip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K-I-S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ther Use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urbulation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sessive act of opening and closing a refrigerator door in an attempt to catch it before the automatic light comes 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Flarpswitch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light switch in every house with no function whatsoe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ther Use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a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13:47:13Z</dcterms:created>
  <dc:creator>Redbank Valley School Dist. </dc:creator>
  <dc:description/>
  <dc:language>en-US</dc:language>
  <cp:lastModifiedBy>klanders</cp:lastModifiedBy>
  <dcterms:modified xsi:type="dcterms:W3CDTF">2008-01-18T21:44:48Z</dcterms:modified>
  <cp:revision>39</cp:revision>
  <dc:subject/>
  <dc:title>Effective PowerPoint Presentations</dc:title>
</cp:coreProperties>
</file>